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FE88-A654-4DDF-97BA-D3B809A1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FCC4-283E-4F5A-A87D-21B35B87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D816-A2BB-4CD4-9B20-65DEF6D5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6866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1940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892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6866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1940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55AD-A43B-417B-ADD2-3F39E751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398000" cy="33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AEFF-6F1E-41A9-BB5C-9D136053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6866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194080" y="11970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892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6866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194080" y="4055400"/>
            <a:ext cx="23878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74170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DD43-5691-4B1F-8338-7C4E4270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FC76-44CF-42ED-8638-908110A3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18BA-0108-4166-B727-5B9EF640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398000" cy="33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237E-2407-4694-8B7F-70F66DD1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C4F7-2B9D-4B00-B46B-8B144FD2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79800" y="40554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6C47-50FE-44FC-A8E1-E47FC070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79800" y="1197000"/>
            <a:ext cx="36194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920" y="4055400"/>
            <a:ext cx="741708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9E74-5335-46A2-B348-9571C19C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6.jpeg"/><Relationship Id="rId32" Type="http://schemas.openxmlformats.org/officeDocument/2006/relationships/image" Target="../media/image7.jpeg"/><Relationship Id="rId33" Type="http://schemas.openxmlformats.org/officeDocument/2006/relationships/slideLayout" Target="../slideLayouts/slideLayout13.xml"/><Relationship Id="rId34" Type="http://schemas.openxmlformats.org/officeDocument/2006/relationships/slideLayout" Target="../slideLayouts/slideLayout14.xml"/><Relationship Id="rId35" Type="http://schemas.openxmlformats.org/officeDocument/2006/relationships/slideLayout" Target="../slideLayouts/slideLayout15.xml"/><Relationship Id="rId36" Type="http://schemas.openxmlformats.org/officeDocument/2006/relationships/slideLayout" Target="../slideLayouts/slideLayout16.xml"/><Relationship Id="rId37" Type="http://schemas.openxmlformats.org/officeDocument/2006/relationships/slideLayout" Target="../slideLayouts/slideLayout17.xml"/><Relationship Id="rId38" Type="http://schemas.openxmlformats.org/officeDocument/2006/relationships/slideLayout" Target="../slideLayouts/slideLayout18.xml"/><Relationship Id="rId39" Type="http://schemas.openxmlformats.org/officeDocument/2006/relationships/slideLayout" Target="../slideLayouts/slideLayout19.xml"/><Relationship Id="rId40" Type="http://schemas.openxmlformats.org/officeDocument/2006/relationships/slideLayout" Target="../slideLayouts/slideLayout20.xml"/><Relationship Id="rId41" Type="http://schemas.openxmlformats.org/officeDocument/2006/relationships/slideLayout" Target="../slideLayouts/slideLayout21.xml"/><Relationship Id="rId42" Type="http://schemas.openxmlformats.org/officeDocument/2006/relationships/slideLayout" Target="../slideLayouts/slideLayout22.xml"/><Relationship Id="rId43" Type="http://schemas.openxmlformats.org/officeDocument/2006/relationships/slideLayout" Target="../slideLayouts/slideLayout23.xml"/><Relationship Id="rId4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B654-F92C-4A4E-92C6-61B2454B536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Kristen ITC"/>
              </a:rPr>
              <a:t>Click to edit the title text format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1"/>
          <a:stretch/>
        </p:blipFill>
        <p:spPr>
          <a:xfrm>
            <a:off x="7885080" y="0"/>
            <a:ext cx="125892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2"/>
          <a:stretch/>
        </p:blipFill>
        <p:spPr>
          <a:xfrm>
            <a:off x="8028000" y="5157720"/>
            <a:ext cx="950760" cy="1500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rot="5400000">
            <a:off x="6590160" y="20563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f1311"/>
                </a:solidFill>
                <a:latin typeface="Kristen ITC"/>
              </a:rPr>
              <a:t>L’Etrange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Kristen ITC"/>
              </a:rPr>
              <a:t>Click to edit the outline text format</a:t>
            </a:r>
            <a:endParaRPr b="0" lang="en-US" sz="2000" spc="-1" strike="noStrike">
              <a:solidFill>
                <a:srgbClr val="2f1311"/>
              </a:solidFill>
              <a:latin typeface="Kristen IT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3"/>
    <p:sldLayoutId id="2147483663" r:id="rId34"/>
    <p:sldLayoutId id="2147483664" r:id="rId35"/>
    <p:sldLayoutId id="2147483665" r:id="rId36"/>
    <p:sldLayoutId id="2147483666" r:id="rId37"/>
    <p:sldLayoutId id="2147483667" r:id="rId38"/>
    <p:sldLayoutId id="2147483668" r:id="rId39"/>
    <p:sldLayoutId id="2147483669" r:id="rId40"/>
    <p:sldLayoutId id="2147483670" r:id="rId41"/>
    <p:sldLayoutId id="2147483671" r:id="rId42"/>
    <p:sldLayoutId id="2147483672" r:id="rId43"/>
    <p:sldLayoutId id="2147483673" r:id="rId4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La peine de mort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841920" y="824040"/>
            <a:ext cx="3466800" cy="5209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rot="20087400">
            <a:off x="755640" y="206028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cf6f6"/>
                </a:solidFill>
                <a:latin typeface="Comic Sans MS"/>
              </a:rPr>
              <a:t>Why does Camus decide that Meursault must die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La peine de mort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841920" y="824040"/>
            <a:ext cx="3466800" cy="5209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rot="19472400">
            <a:off x="638280" y="264276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cf6f6"/>
                </a:solidFill>
                <a:latin typeface="Comic Sans MS"/>
              </a:rPr>
              <a:t>Why ‘une place publique’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La peine de mort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841920" y="824040"/>
            <a:ext cx="3466800" cy="5209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rot="19472400">
            <a:off x="797040" y="25905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cf6f6"/>
                </a:solidFill>
                <a:latin typeface="Comic Sans MS"/>
              </a:rPr>
              <a:t>Why ‘au nom du peuple français’ 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398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Kristen ITC"/>
              </a:rPr>
              <a:t>La peine de mort</a:t>
            </a:r>
            <a:endParaRPr b="0" lang="en-US" sz="3600" spc="-1" strike="noStrike">
              <a:solidFill>
                <a:srgbClr val="f7d47d"/>
              </a:solidFill>
              <a:latin typeface="Kristen ITC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841920" y="824040"/>
            <a:ext cx="3466800" cy="52099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rot="19472400">
            <a:off x="797040" y="25905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cf6f6"/>
                </a:solidFill>
                <a:latin typeface="Comic Sans MS"/>
              </a:rPr>
              <a:t>Why is Meursault the last to know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12:37:07Z</dcterms:created>
  <dc:creator>Steve Badger</dc:creator>
  <dc:description/>
  <dc:language>en-US</dc:language>
  <cp:lastModifiedBy>badgers</cp:lastModifiedBy>
  <dcterms:modified xsi:type="dcterms:W3CDTF">2006-10-12T07:54:51Z</dcterms:modified>
  <cp:revision>8</cp:revision>
  <dc:subject/>
  <dc:title>Les thèmes du récit</dc:title>
</cp:coreProperties>
</file>